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8.png" ContentType="image/png"/>
  <Override PartName="/ppt/media/image16.wmf" ContentType="image/x-wmf"/>
  <Override PartName="/ppt/media/image18.jpeg" ContentType="image/jpeg"/>
  <Override PartName="/ppt/media/image11.wmf" ContentType="image/x-wmf"/>
  <Override PartName="/ppt/media/image12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D48-C498-4E17-AEB7-1D0D6884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023-E81F-446E-AD02-438BCC7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24C-B8BC-45FB-91EE-924B8946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73C-8830-41A5-8C8F-B35560CE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B3B3-195C-4287-8521-493CAA58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E2F2-CB72-43E3-A308-A1AE71C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376-B446-4426-BC81-AC431AE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00DC-66EA-4F8E-9444-5C053DEC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1426-C97C-4F88-888B-448EC5DF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676F-C16B-4DF1-8F9F-EF5CD79B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2EC1-820A-4BB7-8566-FC340BE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B1D-81EF-4E4F-B3D1-D24BD7E2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33AB-DF49-4DE8-AF66-401BF9F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82AA-C22C-4B7D-9D0C-7335C48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F973-9F5B-4CDF-9B06-32858BA0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D5C5-2AF8-4439-B053-6DD637F1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C4C2-B6A0-4704-A7C5-C4EA0D4F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CC3F-A5B1-4639-8C24-A126271C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E911-B5AD-40C9-BCC5-B94E7997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DCD3-0CE7-4933-B469-AF38162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FD37-4265-4197-9E37-6EF02FC2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95CC-AFA9-43F2-ADA3-89101BC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3A8-CFEB-4AC5-8CCE-1EB5607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2315-0F28-47E2-BCCB-EDDC0F6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2687-4913-4071-997C-8848C91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6EE7-36B3-46BB-A1CB-4FA412A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E4FE3-C1BB-489A-A849-C1BD7ECF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C90B-B897-43DA-86D2-DC65F404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8BE7-D556-4657-9C47-92675758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88C5-E284-46E6-B48E-78A6BED4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0F9-EE88-47F8-A7A4-EBFA1E2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18E-4C9E-4DDF-9848-AC8153F5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F93-3F77-4D97-9FF8-8A26745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CAE-0100-49E7-91D1-C75F179E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0D5-75E2-430F-81B5-1A749FD0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F5D-5B08-4DBE-BDC4-018F50A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DCE-2D79-4D51-AF5E-1CA31AAD327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6b86"/>
              </a:gs>
              <a:gs pos="100000">
                <a:srgbClr val="7bd1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E74-A58C-4188-B09F-082D1708986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ef5fa">
                  <a:alpha val="1176"/>
                </a:srgbClr>
              </a:gs>
              <a:gs pos="100000">
                <a:srgbClr val="def5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9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1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ebf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1D20-390F-4C6C-A978-7C5471C3CF4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530280" y="987480"/>
            <a:ext cx="8327880" cy="1481040"/>
          </a:xfrm>
          <a:prstGeom prst="rect">
            <a:avLst/>
          </a:prstGeom>
          <a:ln w="0">
            <a:noFill/>
          </a:ln>
        </p:spPr>
      </p:pic>
      <p:pic>
        <p:nvPicPr>
          <p:cNvPr id="134" name="Subtitle 2" descr=""/>
          <p:cNvPicPr/>
          <p:nvPr/>
        </p:nvPicPr>
        <p:blipFill>
          <a:blip r:embed="rId2"/>
          <a:stretch/>
        </p:blipFill>
        <p:spPr>
          <a:xfrm>
            <a:off x="469800" y="3121200"/>
            <a:ext cx="830916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Text Placeholder 12"/>
          <p:cNvGraphicFramePr/>
          <p:nvPr/>
        </p:nvGraphicFramePr>
        <p:xfrm>
          <a:off x="0" y="-190440"/>
          <a:ext cx="9448920" cy="70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Text Placeholder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90440"/>
                    <a:ext cx="9448920" cy="70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Text Placeholder 12"/>
          <p:cNvGraphicFramePr/>
          <p:nvPr/>
        </p:nvGraphicFramePr>
        <p:xfrm>
          <a:off x="23760" y="14400"/>
          <a:ext cx="912024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ext Placeholder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14400"/>
                    <a:ext cx="912024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124080" y="152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rive Thru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1752480"/>
            <a:ext cx="762120" cy="396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5 Number Summary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In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2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1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119"/>
                </a:solidFill>
                <a:latin typeface="Century Gothic"/>
              </a:rPr>
              <a:t>Outside Tim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in = 1.01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1 = 1.59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ed = 2.2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Q3 = 2.5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x = 3.56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he Test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905120"/>
            <a:ext cx="8076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1- Mean difference testing whether the average drive thru time is equal to the average insid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st 2- Chi-Square Goodness of Fit test, Testing weather the average drive thru time found is equal to the national average for each restaurant visi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orm po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&gt; 3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00&gt;30(check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One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: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=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Ha: µ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d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≠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T= x- µ =21.42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s/ 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2P(t &gt; 21.422 | df = 14 ) = 4.229 *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-1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4114800"/>
            <a:ext cx="1143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4956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295280" y="4191120"/>
            <a:ext cx="1526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4197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reject ho in favor of Ha because the p-value of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4.229 *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-1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 is less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 the average times of Inside times and Drive Thru times are not equ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fidence Interval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± (t*)(s/  n) =( -.295, .62834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are 99% confident that the mean difference of Drive thru times and inside times is between -.295 and .62834 m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209680"/>
            <a:ext cx="152280" cy="7632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43200" y="198072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ssumptions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at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Large enough sample size so that all expected values counts &gt; 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0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d yellowpages.com to find random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60520" indent="-495360">
              <a:spcBef>
                <a:spcPts val="649"/>
              </a:spcBef>
              <a:buClr>
                <a:srgbClr val="2da2bf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ec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Test Two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Century Gothic"/>
              </a:rPr>
              <a:t>Ho: the observed frequency distribution Of the average drive thru time fit the expected distribution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Century Gothic"/>
                <a:ea typeface="Arial"/>
              </a:rPr>
              <a:t>Ha: </a:t>
            </a:r>
            <a:r>
              <a:rPr b="1" lang="en-US" sz="2000" spc="-1" strike="noStrike">
                <a:solidFill>
                  <a:srgbClr val="2da2bf"/>
                </a:solidFill>
                <a:latin typeface="Century Gothic"/>
              </a:rPr>
              <a:t>the observed frequency distribution Of the average drive thru time doesn’t fit the expected distributio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Χ²= </a:t>
            </a:r>
            <a:r>
              <a:rPr b="1" lang="en-US" sz="3100" spc="-1" strike="noStrike">
                <a:solidFill>
                  <a:srgbClr val="ffffff"/>
                </a:solidFill>
                <a:latin typeface="Century Gothic"/>
                <a:ea typeface="Arial"/>
              </a:rPr>
              <a:t>Σ</a:t>
            </a:r>
            <a:r>
              <a:rPr b="1" lang="en-US" sz="2000" spc="-1" strike="noStrike" baseline="100000">
                <a:solidFill>
                  <a:srgbClr val="ffffff"/>
                </a:solidFill>
                <a:latin typeface="Century Gothic"/>
                <a:ea typeface="Arial"/>
              </a:rPr>
              <a:t>(obs. – exp.)2/exp.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= (2.20-3.39)2 / 3.39 + (2.21-3.21)2 / 3.21+ … =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= 1.3135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P(Χ² </a:t>
            </a:r>
            <a:r>
              <a:rPr b="1" lang="en-US" sz="2100" spc="-1" strike="noStrike">
                <a:solidFill>
                  <a:srgbClr val="ffffff"/>
                </a:solidFill>
                <a:latin typeface="Century Gothic"/>
                <a:ea typeface="Arial"/>
              </a:rPr>
              <a:t>&gt; 1.3135 |df = 4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Arial"/>
              </a:rPr>
              <a:t>) = .859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113976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142640"/>
            <a:ext cx="4191120" cy="5181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st Food restaurants have been around since 1921 when the first White Castle open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hamburger invented in 1916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rst drive-thru restaurant invented in 1948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cember 12, 1948 First McDonalds opene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rger King open in the1950s and Wendy’s came along in 196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Conclus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fail to reject Ho because the p-value of .8591 is greater then </a:t>
            </a:r>
            <a:r>
              <a:rPr b="0" lang="el-GR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α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= .05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have sufficient evidence that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Century Gothic"/>
              </a:rPr>
              <a:t>the observed frequency distribution Of the average drive thru time fit the expected distribution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Margin Of Error</a:t>
            </a: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ordering different things or amount in which you 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different time of day (how busy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Number of people on shif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who serves you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a2bf"/>
                </a:solidFill>
                <a:latin typeface="Century Gothic"/>
                <a:ea typeface="Times New Roman"/>
              </a:rPr>
              <a:t>timing not accurate(human error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pplication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collection of data we did find somewhat difficult just because of the huge amount of data need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started out by buy all the food ourselves but then reverted to just timing people b/c of cos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ject was fun but challeng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Application Cont.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one were not surprising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results for test two were surprising either b.c. they fit with the national averag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Text Placeholder 12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03884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6" descr=""/>
          <p:cNvPicPr/>
          <p:nvPr/>
        </p:nvPicPr>
        <p:blipFill>
          <a:blip r:embed="rId1"/>
          <a:stretch/>
        </p:blipFill>
        <p:spPr>
          <a:xfrm>
            <a:off x="-201600" y="1547640"/>
            <a:ext cx="9723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icked a SRS of 3 types of each restaurant  by using yellowpages.com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each place we gathered 10 times from getting food inside and 10 from going through the drive thru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0" name="Content Placeholder 4" descr="ts.jpg"/>
          <p:cNvPicPr/>
          <p:nvPr/>
        </p:nvPicPr>
        <p:blipFill>
          <a:blip r:embed="rId2"/>
          <a:stretch/>
        </p:blipFill>
        <p:spPr>
          <a:xfrm>
            <a:off x="4297320" y="1944720"/>
            <a:ext cx="47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97800" cy="1407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0 Easton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80 W Street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Burger King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56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60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 West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Newtown, PA 18940-43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Chick-fil-A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500 W Moreland Rd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19090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865 Easton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illow Grove, PA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90 N Main S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KFC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1719 N Broad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Lansdale, PA 19446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620 EASTON ROA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RINGTON, PA 18976 US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400 N Main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Wendy’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755 York Rd Ste 204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Warminster, PA 1897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1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395 York R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Jamison, PA 18929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2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210 Inverness Cir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Chalfont, PA 18914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cDonalds 3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39 Doyle St 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Century Gothic"/>
              </a:rPr>
              <a:t>Doylestown, PA 18901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09480" y="1676520"/>
          <a:ext cx="80773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77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447920" y="457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ata for Going Ins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600200"/>
          <a:ext cx="1076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600200"/>
                    <a:ext cx="1076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Data for Drive Thru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600200"/>
          <a:ext cx="7848720" cy="487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7848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3809880" y="1828800"/>
          <a:ext cx="4953240" cy="4108320"/>
        </p:xfrm>
        <a:graphic>
          <a:graphicData uri="http://schemas.openxmlformats.org/drawingml/2006/table">
            <a:tbl>
              <a:tblPr/>
              <a:tblGrid>
                <a:gridCol w="2065320"/>
                <a:gridCol w="1363680"/>
                <a:gridCol w="15242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me of Restaur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ime in Minu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ur Overall Average time(mi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cDonal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rger 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ndy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F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ick-Fli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: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905120" y="1828800"/>
          <a:ext cx="114300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28800"/>
                    <a:ext cx="1143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09480" y="1828800"/>
          <a:ext cx="1295640" cy="3962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828800"/>
                    <a:ext cx="1295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5c0e0"/>
                </a:solidFill>
                <a:latin typeface="Century Gothic"/>
              </a:rPr>
              <a:t>b</a:t>
            </a:r>
            <a:endParaRPr b="0" lang="en-US" sz="4200" spc="-1" strike="noStrike">
              <a:solidFill>
                <a:srgbClr val="65c0e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030"/>
            </a:gs>
            <a:gs pos="100000">
              <a:srgbClr val="7c7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76720" y="304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ll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5:10:42Z</dcterms:created>
  <dc:creator> </dc:creator>
  <dc:description/>
  <dc:language>en-US</dc:language>
  <cp:lastModifiedBy>Home</cp:lastModifiedBy>
  <dcterms:modified xsi:type="dcterms:W3CDTF">2008-06-10T03:21:33Z</dcterms:modified>
  <cp:revision>36</cp:revision>
  <dc:subject/>
  <dc:title>Slide 1</dc:title>
</cp:coreProperties>
</file>